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BA7-170C-4EEE-9971-34B7BBFC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260-02E9-4FA0-8A01-48A5939E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A919B-94C9-473C-A052-A856869B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737EC-110F-4B02-B201-6C05A15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C5227-F8D7-44C2-8666-EAF559EB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8412E-C751-474A-9D3E-C8606173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C420A-E3D7-41CD-8FDE-9F962B80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7AF55-B2FC-478F-BBEF-3F1E45A1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52864-9950-48A4-B95D-CC552586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477F7-ACB9-4F60-AF30-452E0115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A6D2C-B959-4CBB-9BCB-A67E11C4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78F78-91CB-42A5-93E3-9C903CF1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4C1-C16E-407D-9E27-F2AA6B86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EF057-5A14-4D88-9F9F-7B0023EB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371AE-0E89-4BEB-B537-9CB1081E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46F5C-ABB4-4473-9790-4DF7DF8D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14BC3-455E-4AED-902B-25AE9172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03071-F7E4-4237-9C89-BBCB678B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AF92C-D05E-4719-8282-9DDDE486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ACE66-250B-4349-B9D6-0291D621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732DA-38FF-4B4C-A249-25463913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C74C0-0350-46E0-AA93-5138F7DD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A233F-1D3B-4FD0-8FED-E44D867D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E82-BACD-4B56-BCFB-A1B70CE5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D2148-FA06-47A5-BEAC-5B64AE9C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17512-20DB-4B99-BEF0-3F16623A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CBBAC-3EF0-4A90-814B-DCED4A12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7A9CB-FC05-4541-986E-D69A6A16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AB62C-AEEA-403A-8A91-DDAC41BC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20988-B11B-4B22-A387-FF10D0C5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24C10-F7ED-425C-B68F-A60597C9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9BDB3-550B-4B79-ACEE-DE31A0A9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62DF4-CF3D-4B30-9254-19FBE58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7D905-22C1-4051-AD8A-360FA35C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1C5A-02BE-4859-B010-7F507BB7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DD25F-BA7D-4CB2-A7DC-9D75E2FE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D0193-C566-467E-B5B1-44BBC56A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046F9-202D-4780-9FDD-63358C67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421DA-9D42-448F-A9DD-23AC961B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F7538-1A70-466E-BD33-9247DB9A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EF944-6691-4AA3-A267-413922DA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29DAF-252D-4EBC-BD02-92B4D49C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DEF5B-D294-4713-B5FC-8938D3AE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74C61-723F-46E3-BC27-03AB3857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0C253-F5A4-4A85-A019-CEEA510D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2D01-A52D-4399-8EB0-DDE348C7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6CF9A-449C-4A84-BD62-5D2E6633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76422-7ED0-47FB-A43B-C6978B09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DA12A-5ACA-4AFC-99EA-4D613165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9199A-1D0F-40C1-93D8-772B956A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BFDA8-51CB-4E6A-BD6A-E5FB02A6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05E3-0A08-4F88-86A5-EFDF7EBD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8130-0DD0-4821-A7B0-963DE35A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54CD-238F-4797-8136-50128138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28BF-EE0C-4F7A-98E6-2108BBBD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900C-41C9-4D82-975C-9A44BDDB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49D-291F-4D51-AF36-0B3E5AB5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9281-9CE0-4505-8D42-319461F0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BE1D-EA63-441A-9546-1EA91C30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353F-90BA-4F0B-8B73-6EBA4698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27CC-0421-4A75-B022-0F63091C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5192-AC1D-4ED5-8208-AD34C0AD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C021-ABE7-4EC5-897E-8F837D94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54B0-1D73-4EEE-B3B0-BC87DD66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E193-8311-4CF6-8574-2013B48B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4732E-1AF5-4040-8B99-EB42DAF0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1104-93BE-485A-AA4E-8DDD9758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BD0-D1C1-4E9F-9C27-52E8E396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6276-AA7E-460A-A76C-66910DE6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4730-DB80-46B6-ADAA-19E1911C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A0F0-41F3-4732-B8BB-EDDAFD3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22B8-F0B9-4014-951B-D1659B2A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177D-CA61-4665-A472-C944EF5D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8393-2525-453D-85B7-B52949A3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FF4A-C1C4-4B25-9613-F613ED21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BA52-A2F2-4FFD-81B2-B9A556CE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79767-B365-4970-8306-00F8AA09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B0C4C-B193-49A1-8B51-E4042CFC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530-11EE-4292-9BA4-D9203560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799E-212F-4E10-980A-42719453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B449-CDC3-42C5-8E0A-0FF8682D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286C-91D9-4E7B-B8F1-11204993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9D4DA-055D-464A-A7AC-A4716999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81133-6E9E-4E65-A12B-571FF6F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14E0C-D77D-429F-B60E-C9A544EA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E6C6C-665F-4245-9DC2-2F585C34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B138C-0848-4187-8A7B-2BBA4928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B43B-31E2-4102-B091-3E19813E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F0874-E6CF-4509-A347-1369EBC9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520-5A6F-4855-BB6C-FDEA973D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C5F6F-1D0D-452F-BC34-8C2874F2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5C85B-07D3-4262-AD91-4DE10172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B74C3-88DB-4103-A442-44F646E6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2BBA3-B7CB-409E-8041-69A58726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3CCEE-ECE6-49E5-BE9D-9D868E1A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295E6-A24A-425A-8856-4FD34F7E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8A923-858B-4FBE-A39C-B40F30D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97DFF-3BFC-42EC-AE1E-6C8F415C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95450-DAC0-47E9-8ECC-AC0B6A65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8EE65-4352-453F-8F36-0D5F9405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61D-09FC-453A-B939-2F786222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7546-A3F6-4817-B247-7955A2F4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96432-9ADE-4314-8D73-A7C22E92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1816E-790D-4EF6-9D3F-7AA2184B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04DD1-889B-4025-A2F6-B4F5B136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112C1-223F-4514-99B6-13FBA67B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184B-60EC-4179-9B1A-97B6BD1A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D1DCE-FBDA-4E09-9A37-9B59BD79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255E-7390-4510-93E9-8EE8FBE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72EA3-19E7-4D90-900D-AB80486F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22DE9-BC01-4C2E-A80B-9C011A8D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C1D-A038-4C85-A47C-A9BD27C0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DC977-FFB0-4F39-8EB2-57B74CDD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B7C2A-2208-454E-9A60-519CF081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9B381-9EA0-4C0D-A40A-76F07966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1198C-EE4B-4FCF-ADD2-1B39F099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EAA00-26B3-4F38-AA93-78944FC1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9025C-9FF5-437A-BD8A-1091E73B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4F796-C620-42A2-94B1-2B6E0D8C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C04D3-AFB8-40A1-9FB4-72E2CD75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7B4BD-C6FE-4A6B-9CE5-D4B2A85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AAC44-92A5-48D4-9567-77415D5B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A71-7214-480D-893F-DBE4967E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4E410-275A-4A09-9A32-9DB40AFE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5CCE-87B3-457E-93D2-EFF14078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A81C2-50CF-42EC-B9F3-1192FDC6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44EC-6076-4EBD-AE72-98AE5553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C32D7-00D4-4FA4-A5FA-9ED8823F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86E95-E9BA-4ECA-AB24-B1713946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381B2-E4A1-48E1-A18B-8BF8FCD8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048DA-339F-4928-9441-E7C87FAB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656BD-F6D1-4E92-B9F9-77527B2A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2FC95-33A8-48A9-A145-1F6DB477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FDF-C205-4EC9-8C89-04A860FA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D27D9-CD1A-4B32-B3BD-888E4908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4D744-1518-4FA2-8849-453962CB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80A60-8D8D-43AF-9131-CB033FC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7442C-C4D0-40B5-B06C-F0EFAA69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0DEBC-0CC3-4971-8FDD-3D306ED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102DB-E4E3-458A-8935-492908DA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83706-93A3-4985-8B86-815B9A7E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2ECBF-45A7-4171-A0AB-B6E101D0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29008-EE8C-4086-A76D-CBF554E5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69439-3470-4957-8A6D-62F86508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89DE-28AF-4307-9D0F-132BA7DA365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70CE-75C3-45D7-B25E-94C422AB1F6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577-028A-4E18-AF9C-A55B59AFA98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9F3C-B934-487F-BAB1-22FAD78E49B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F665-CC02-4E41-98E3-34F55023B38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0B24-EE33-4573-8C73-8A74D807040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6" name="Slika 7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0C87-EB41-4671-8313-E941A4F5BB3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567D-EDCA-40B8-9497-830958A06F5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F959-00DF-42D6-BDF4-57FA22D9384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4B2E-1485-473A-AD10-BEE791A0626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6B37-EA63-4E9B-9E2F-913FDA4A0EE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9A9A-7838-4299-B5DC-8CB3227B8A2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Težište tij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77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Ravnoteža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Arial"/>
              </a:rPr>
              <a:t>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3"/>
          <p:cNvSpPr/>
          <p:nvPr/>
        </p:nvSpPr>
        <p:spPr>
          <a:xfrm>
            <a:off x="4495680" y="4952880"/>
            <a:ext cx="4419720" cy="119124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o je to stabilnije što mu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žište niže, a oslonac već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f1"/>
          <p:cNvPicPr/>
          <p:nvPr/>
        </p:nvPicPr>
        <p:blipFill>
          <a:blip r:embed="rId1"/>
          <a:stretch/>
        </p:blipFill>
        <p:spPr>
          <a:xfrm>
            <a:off x="304920" y="1523880"/>
            <a:ext cx="502128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Vrste ravnote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8" descr=""/>
          <p:cNvPicPr/>
          <p:nvPr/>
        </p:nvPicPr>
        <p:blipFill>
          <a:blip r:embed="rId1"/>
          <a:stretch/>
        </p:blipFill>
        <p:spPr>
          <a:xfrm>
            <a:off x="0" y="1371600"/>
            <a:ext cx="3335400" cy="20574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9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2743200" cy="1817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789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3"/>
          <p:cNvSpPr/>
          <p:nvPr/>
        </p:nvSpPr>
        <p:spPr>
          <a:xfrm>
            <a:off x="424080" y="1447920"/>
            <a:ext cx="76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pravi lik od kartona koji ima oblik hrvatskog teritor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dite težiš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3809880" cy="38307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442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Box 3"/>
          <p:cNvSpPr/>
          <p:nvPr/>
        </p:nvSpPr>
        <p:spPr>
          <a:xfrm>
            <a:off x="254520" y="1676520"/>
            <a:ext cx="51156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težiš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že li težište biti izvan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oslonac tijela na podloz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da je tijelo u ravnotež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da se tijelo na podlozi samo ruš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Slika 1" descr=""/>
          <p:cNvPicPr/>
          <p:nvPr/>
        </p:nvPicPr>
        <p:blipFill>
          <a:blip r:embed="rId1"/>
          <a:stretch/>
        </p:blipFill>
        <p:spPr>
          <a:xfrm>
            <a:off x="241200" y="91440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lakše održavati ravnotežu u autobusu koji se kreće ako stojimo u laganom raskor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akrobati u cirkusu mogu izvoditi nevjerojatne for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25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4"/>
          <p:cNvSpPr/>
          <p:nvPr/>
        </p:nvSpPr>
        <p:spPr>
          <a:xfrm>
            <a:off x="0" y="114300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đivanje težišta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7"/>
          <p:cNvSpPr/>
          <p:nvPr/>
        </p:nvSpPr>
        <p:spPr>
          <a:xfrm>
            <a:off x="19800" y="1981080"/>
            <a:ext cx="399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dje se nalazi težište ravna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824280" cy="1228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"/>
          <p:cNvPicPr/>
          <p:nvPr/>
        </p:nvPicPr>
        <p:blipFill>
          <a:blip r:embed="rId2"/>
          <a:stretch/>
        </p:blipFill>
        <p:spPr>
          <a:xfrm>
            <a:off x="4038480" y="4800600"/>
            <a:ext cx="4064040" cy="12193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7"/>
          <p:cNvSpPr/>
          <p:nvPr/>
        </p:nvSpPr>
        <p:spPr>
          <a:xfrm>
            <a:off x="4062600" y="4343400"/>
            <a:ext cx="479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že li se položaj težišta promijenit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Slika 7" descr=""/>
          <p:cNvPicPr/>
          <p:nvPr/>
        </p:nvPicPr>
        <p:blipFill>
          <a:blip r:embed="rId3"/>
          <a:stretch/>
        </p:blipFill>
        <p:spPr>
          <a:xfrm>
            <a:off x="380880" y="766800"/>
            <a:ext cx="13575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Težište</a:t>
            </a:r>
            <a:r>
              <a:rPr b="0" lang="hr-HR" sz="4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540360" y="1219320"/>
            <a:ext cx="700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7375e"/>
                </a:solidFill>
                <a:latin typeface="Arial"/>
                <a:ea typeface="Arial"/>
              </a:rPr>
              <a:t>Težište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17375e"/>
                </a:solidFill>
                <a:latin typeface="Arial"/>
                <a:ea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točka u kojoj tijelo miruje ako je u njoj podup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čka u kojoj je hvatište sile 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znaka za težišt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1684800" y="5562720"/>
            <a:ext cx="56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žište pravilni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a jednolike gustoć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28958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4"/>
          <p:cNvSpPr/>
          <p:nvPr/>
        </p:nvSpPr>
        <p:spPr>
          <a:xfrm>
            <a:off x="0" y="137160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đivanje težišta nepravilnog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657600" cy="25002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1"/>
          <p:cNvSpPr/>
          <p:nvPr/>
        </p:nvSpPr>
        <p:spPr>
          <a:xfrm>
            <a:off x="4424400" y="3276720"/>
            <a:ext cx="457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rtanje težiš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žišnice se sijeku u težištu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Slika 5" descr=""/>
          <p:cNvPicPr/>
          <p:nvPr/>
        </p:nvPicPr>
        <p:blipFill>
          <a:blip r:embed="rId2"/>
          <a:stretch/>
        </p:blipFill>
        <p:spPr>
          <a:xfrm>
            <a:off x="228600" y="87156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4"/>
          <p:cNvSpPr/>
          <p:nvPr/>
        </p:nvSpPr>
        <p:spPr>
          <a:xfrm>
            <a:off x="685800" y="114300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sto težišta mijenja se u ovisnosti o položaju tij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7334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3"/>
          <p:cNvSpPr/>
          <p:nvPr/>
        </p:nvSpPr>
        <p:spPr>
          <a:xfrm>
            <a:off x="1405080" y="114300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 neka se tijela težište nalazi izvan tijel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1523880" y="1752480"/>
            <a:ext cx="5500800" cy="3127320"/>
            <a:chOff x="1523880" y="1752480"/>
            <a:chExt cx="5500800" cy="3127320"/>
          </a:xfrm>
        </p:grpSpPr>
        <p:pic>
          <p:nvPicPr>
            <p:cNvPr id="527" name="Picture 2" descr=""/>
            <p:cNvPicPr/>
            <p:nvPr/>
          </p:nvPicPr>
          <p:blipFill>
            <a:blip r:embed="rId1"/>
            <a:stretch/>
          </p:blipFill>
          <p:spPr>
            <a:xfrm>
              <a:off x="1523880" y="1752480"/>
              <a:ext cx="5500800" cy="264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Box 3"/>
            <p:cNvSpPr/>
            <p:nvPr/>
          </p:nvSpPr>
          <p:spPr>
            <a:xfrm>
              <a:off x="2215800" y="442008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st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4"/>
            <p:cNvSpPr/>
            <p:nvPr/>
          </p:nvSpPr>
          <p:spPr>
            <a:xfrm>
              <a:off x="5342040" y="442008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tko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8060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7375e"/>
                </a:solidFill>
                <a:latin typeface="Arial"/>
                <a:ea typeface="Arial"/>
              </a:rPr>
              <a:t>Oslonac tijela</a:t>
            </a:r>
            <a:r>
              <a:rPr b="0" lang="hr-HR" sz="29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457200" y="175248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Čovjeku koji stoji oslonac je povr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loge ispod i između stop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486000" y="3809880"/>
            <a:ext cx="52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o čovjek stoji razmaknutih stopa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lonac je već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1676520" cy="19512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2209680" cy="156816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"/>
          <p:cNvSpPr/>
          <p:nvPr/>
        </p:nvSpPr>
        <p:spPr>
          <a:xfrm>
            <a:off x="914400" y="5791320"/>
            <a:ext cx="6934320" cy="52056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ijelo je stabilnije što je površina oslonca već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64404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17375e"/>
                </a:solidFill>
                <a:latin typeface="Arial"/>
                <a:ea typeface="Arial"/>
              </a:rPr>
              <a:t>Ravnoteža</a:t>
            </a:r>
            <a:r>
              <a:rPr b="0" lang="en-US" sz="2900" spc="-1" strike="noStrike">
                <a:solidFill>
                  <a:srgbClr val="17375e"/>
                </a:solidFill>
                <a:latin typeface="Arial"/>
                <a:ea typeface="Arial"/>
              </a:rPr>
              <a:t> tijela</a:t>
            </a:r>
            <a:r>
              <a:rPr b="0" lang="hr-HR" sz="29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3"/>
          <p:cNvSpPr/>
          <p:nvPr/>
        </p:nvSpPr>
        <p:spPr>
          <a:xfrm>
            <a:off x="4114800" y="1295280"/>
            <a:ext cx="4343400" cy="119124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o je u ravnoteži kad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koj podlozi mir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7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353040" cy="5016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čekić-gif"/>
          <p:cNvPicPr/>
          <p:nvPr/>
        </p:nvPicPr>
        <p:blipFill>
          <a:blip r:embed="rId2"/>
          <a:stretch/>
        </p:blipFill>
        <p:spPr>
          <a:xfrm>
            <a:off x="4191120" y="26859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5:34Z</dcterms:modified>
  <cp:revision>58</cp:revision>
  <dc:subject/>
  <dc:title>Slide 1</dc:title>
</cp:coreProperties>
</file>